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97700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73CD-8485-4099-AC89-1E5911B8F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FB13-9E8F-46E4-A524-CB0C9774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8549-2D03-4E2C-8B3A-A61BE559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1EF8-2ACA-4763-BE62-F76BDF093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120A-FFED-4C36-9A6C-7BE9DC0AD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E228-8ACB-479E-ADE7-7E0D2B77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00DE-BD7A-4343-A2E7-4A7A69D9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8843-4362-4563-9B1C-9D3B5A90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260C-485A-41B7-B684-6DC09362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01AD-1821-4411-9118-7122EE40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89DE-0BCC-425C-90D3-806D582F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6153-AD05-4FB2-BBF1-E2C949EF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FEF8-F569-483B-B9D4-82E77671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79CE-639A-44B5-9BF5-17AA229E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6F49-DA90-4B54-ABFA-DA97A4E7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C72D-2732-4BCC-8578-BEAA337D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AF4B-3BD1-4501-AD62-094CA36C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B18E-D5DC-4E7B-BDEA-DA678A7F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EC87-9957-4AED-BD7C-97172488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780C-BB81-4CE5-B1AF-376F966E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BA6A-1482-457E-B160-93DC4129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9185-EABA-42D9-B3D0-EDA18BD8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822B-2E26-4727-9EEF-7C43A995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6669-10E4-4D7F-A006-F79ADA2F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7435-BAA6-410E-9D05-67F3EB2B65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DACF-E493-4F2A-B7C2-F059E50A77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3344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75248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5229360"/>
            <a:ext cx="81532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6 Period Day Model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6021000"/>
            <a:ext cx="807696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herine Gilbe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ristopher Truff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8edf2"/>
                </a:solidFill>
                <a:latin typeface="Tahoma"/>
              </a:rPr>
              <a:t>Change in Scheduling Models</a:t>
            </a:r>
            <a:br>
              <a:rPr sz="4000"/>
            </a:br>
            <a:r>
              <a:rPr b="0" lang="en-US" sz="4000" spc="-1" strike="noStrike">
                <a:solidFill>
                  <a:srgbClr val="e8edf2"/>
                </a:solidFill>
                <a:latin typeface="Tahoma"/>
              </a:rPr>
              <a:t>Middle School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62120" y="2984400"/>
          <a:ext cx="3771720" cy="232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984400"/>
                    <a:ext cx="3771720" cy="2328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52280" y="1828800"/>
          <a:ext cx="8823600" cy="47466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828800"/>
                    <a:ext cx="8823600" cy="47466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6 Period Day Model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69608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 58-minute Perio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5-minute lun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4-minutes of passing time = 397 total minutes/400 avail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teachers – Core and Encore- teach 4 out of 6 cla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ets COMAR requirements for PE/Health, WCL, and Fine A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62120" y="1773360"/>
          <a:ext cx="7696080" cy="893520"/>
        </p:xfrm>
        <a:graphic>
          <a:graphicData uri="http://schemas.openxmlformats.org/drawingml/2006/table">
            <a:tbl>
              <a:tblPr/>
              <a:tblGrid>
                <a:gridCol w="1100160"/>
                <a:gridCol w="1098360"/>
                <a:gridCol w="1100160"/>
                <a:gridCol w="1098720"/>
                <a:gridCol w="555480"/>
                <a:gridCol w="1447920"/>
                <a:gridCol w="129528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co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co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6 Period Day Model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69608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intains common planning time for Core and possibly Encore teac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s opportunities to study World and Classical Langua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ves Advanced Language Arts 8/ World &amp; Classical Languages iss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ves AVID/World &amp; Classical Language issue in grade 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62120" y="1773360"/>
          <a:ext cx="7696080" cy="893520"/>
        </p:xfrm>
        <a:graphic>
          <a:graphicData uri="http://schemas.openxmlformats.org/drawingml/2006/table">
            <a:tbl>
              <a:tblPr/>
              <a:tblGrid>
                <a:gridCol w="1100160"/>
                <a:gridCol w="1098360"/>
                <a:gridCol w="1100160"/>
                <a:gridCol w="1098720"/>
                <a:gridCol w="555480"/>
                <a:gridCol w="1447920"/>
                <a:gridCol w="129528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co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co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6 Period Day Model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69608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dresses WCL programmatic concern in MYP schoo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ves research based Intervention classes away from PE/H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ld provide more consecutive reading time for students in ne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s the need for World and Classical Language Teac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62120" y="1773360"/>
          <a:ext cx="7696080" cy="893520"/>
        </p:xfrm>
        <a:graphic>
          <a:graphicData uri="http://schemas.openxmlformats.org/drawingml/2006/table">
            <a:tbl>
              <a:tblPr/>
              <a:tblGrid>
                <a:gridCol w="1100160"/>
                <a:gridCol w="1098360"/>
                <a:gridCol w="1100160"/>
                <a:gridCol w="1098720"/>
                <a:gridCol w="555480"/>
                <a:gridCol w="1447920"/>
                <a:gridCol w="129528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co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co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6 Period Day Model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69608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reases planning time for all teachers from 90 minutes to 120 minu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reases caseload for Language Arts and math teachers from 90 to 120 students (potential reduction for some grade 8 Advanced Language Arts teacher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reases caseload for Science and Social Studies teachers from 90 to 120 students by semes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1773360"/>
          <a:ext cx="7696080" cy="893520"/>
        </p:xfrm>
        <a:graphic>
          <a:graphicData uri="http://schemas.openxmlformats.org/drawingml/2006/table">
            <a:tbl>
              <a:tblPr/>
              <a:tblGrid>
                <a:gridCol w="1100160"/>
                <a:gridCol w="1098360"/>
                <a:gridCol w="1100160"/>
                <a:gridCol w="1098720"/>
                <a:gridCol w="555480"/>
                <a:gridCol w="1447920"/>
                <a:gridCol w="129528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co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co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6 Period Day Model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696080" cy="36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reases caseload for Science and Social Studies teachers from 180 to 120 students for the ye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iminates the need for classes split by lunch at larger schools with a 4 lunch period r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core program shows progression- restricted in grade 6 to unlimited choices in grade 8 (must meet COMA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quires differentiated staffing mod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0 minute periods possible with additional 10 minutes added to the school 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62120" y="1773360"/>
          <a:ext cx="7696080" cy="893520"/>
        </p:xfrm>
        <a:graphic>
          <a:graphicData uri="http://schemas.openxmlformats.org/drawingml/2006/table">
            <a:tbl>
              <a:tblPr/>
              <a:tblGrid>
                <a:gridCol w="1100160"/>
                <a:gridCol w="1098360"/>
                <a:gridCol w="1100160"/>
                <a:gridCol w="1098720"/>
                <a:gridCol w="555480"/>
                <a:gridCol w="1447920"/>
                <a:gridCol w="129528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co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co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8edf2"/>
                </a:solidFill>
                <a:latin typeface="Tahoma"/>
              </a:rPr>
              <a:t>Sample Schedule</a:t>
            </a:r>
            <a:br>
              <a:rPr sz="4000"/>
            </a:br>
            <a:r>
              <a:rPr b="0" lang="en-US" sz="4000" spc="-1" strike="noStrike">
                <a:solidFill>
                  <a:srgbClr val="e8edf2"/>
                </a:solidFill>
                <a:latin typeface="Tahoma"/>
              </a:rPr>
              <a:t>Grade 6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2286000"/>
          <a:ext cx="1981080" cy="2417400"/>
        </p:xfrm>
        <a:graphic>
          <a:graphicData uri="http://schemas.openxmlformats.org/drawingml/2006/table">
            <a:tbl>
              <a:tblPr/>
              <a:tblGrid>
                <a:gridCol w="1981080"/>
              </a:tblGrid>
              <a:tr h="6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1 (T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2 (AR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3 (FAC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4 (WLC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971800" y="2895480"/>
          <a:ext cx="5486400" cy="1143000"/>
        </p:xfrm>
        <a:graphic>
          <a:graphicData uri="http://schemas.openxmlformats.org/drawingml/2006/table">
            <a:tbl>
              <a:tblPr/>
              <a:tblGrid>
                <a:gridCol w="914400"/>
                <a:gridCol w="1066680"/>
                <a:gridCol w="685800"/>
                <a:gridCol w="990720"/>
                <a:gridCol w="914400"/>
                <a:gridCol w="914400"/>
              </a:tblGrid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762120" y="1600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entury Competenc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4876920"/>
            <a:ext cx="190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ncore Cours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oose 3 to include one Physical Education/ Health Cou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86200" y="4191120"/>
          <a:ext cx="3657600" cy="2514600"/>
        </p:xfrm>
        <a:graphic>
          <a:graphicData uri="http://schemas.openxmlformats.org/drawingml/2006/table">
            <a:tbl>
              <a:tblPr/>
              <a:tblGrid>
                <a:gridCol w="2722680"/>
                <a:gridCol w="934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ur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hysical Education/Heal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an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strumental Musi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oru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neral Musi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VI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terven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8edf2"/>
                </a:solidFill>
                <a:latin typeface="Tahoma"/>
              </a:rPr>
              <a:t>Sample Schedule</a:t>
            </a:r>
            <a:br>
              <a:rPr sz="4000"/>
            </a:br>
            <a:r>
              <a:rPr b="0" lang="en-US" sz="4000" spc="-1" strike="noStrike">
                <a:solidFill>
                  <a:srgbClr val="e8edf2"/>
                </a:solidFill>
                <a:latin typeface="Tahoma"/>
              </a:rPr>
              <a:t>Grade 7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62120" y="1773360"/>
          <a:ext cx="7696080" cy="1746000"/>
        </p:xfrm>
        <a:graphic>
          <a:graphicData uri="http://schemas.openxmlformats.org/drawingml/2006/table">
            <a:tbl>
              <a:tblPr/>
              <a:tblGrid>
                <a:gridCol w="1098360"/>
                <a:gridCol w="1263600"/>
                <a:gridCol w="762120"/>
                <a:gridCol w="1274760"/>
                <a:gridCol w="1098720"/>
                <a:gridCol w="1099800"/>
                <a:gridCol w="1098720"/>
              </a:tblGrid>
              <a:tr h="520560"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/ Health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to/ Inter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809880" y="3611520"/>
          <a:ext cx="4648320" cy="3178080"/>
        </p:xfrm>
        <a:graphic>
          <a:graphicData uri="http://schemas.openxmlformats.org/drawingml/2006/table">
            <a:tbl>
              <a:tblPr/>
              <a:tblGrid>
                <a:gridCol w="3505320"/>
                <a:gridCol w="1143000"/>
              </a:tblGrid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ur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troduction to WC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hysical Educatio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VI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strumental Mus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chnology Educ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mily &amp; Consumer Scie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eneral Mus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oru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terven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3657240"/>
            <a:ext cx="27432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ncore Cours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oose 3 to include one Fine Arts course (any music or art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4876920"/>
            <a:ext cx="26668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quir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hysical Education/ Health Cour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ro to WCL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or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nterven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8edf2"/>
                </a:solidFill>
                <a:latin typeface="Tahoma"/>
              </a:rPr>
              <a:t>Sample Schedule</a:t>
            </a:r>
            <a:br>
              <a:rPr sz="4000"/>
            </a:br>
            <a:r>
              <a:rPr b="0" lang="en-US" sz="4000" spc="-1" strike="noStrike">
                <a:solidFill>
                  <a:srgbClr val="e8edf2"/>
                </a:solidFill>
                <a:latin typeface="Tahoma"/>
              </a:rPr>
              <a:t>Grade 8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3124080" cy="202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ncore Cours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oose 6 to include one Physical Education/Health and one Fine Arts (any music or Ar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62120" y="1773360"/>
          <a:ext cx="7696080" cy="1552320"/>
        </p:xfrm>
        <a:graphic>
          <a:graphicData uri="http://schemas.openxmlformats.org/drawingml/2006/table">
            <a:tbl>
              <a:tblPr/>
              <a:tblGrid>
                <a:gridCol w="1098360"/>
                <a:gridCol w="1100160"/>
                <a:gridCol w="1098720"/>
                <a:gridCol w="1101600"/>
                <a:gridCol w="630360"/>
                <a:gridCol w="1295280"/>
                <a:gridCol w="1371600"/>
              </a:tblGrid>
              <a:tr h="52056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886200" y="3505320"/>
          <a:ext cx="4572000" cy="3155760"/>
        </p:xfrm>
        <a:graphic>
          <a:graphicData uri="http://schemas.openxmlformats.org/drawingml/2006/table">
            <a:tbl>
              <a:tblPr/>
              <a:tblGrid>
                <a:gridCol w="3395520"/>
                <a:gridCol w="1176480"/>
              </a:tblGrid>
              <a:tr h="3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ur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orld &amp; Classical Languag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hysical Educatio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or 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VI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strumental Mus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chnology Educ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mily &amp; Consumer Scie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eneral Mus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oru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terven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or 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3T14:17:39Z</dcterms:created>
  <dc:creator>AACPS User</dc:creator>
  <dc:description/>
  <cp:keywords/>
  <dc:language>en-US</dc:language>
  <cp:lastModifiedBy>Installer</cp:lastModifiedBy>
  <dcterms:modified xsi:type="dcterms:W3CDTF">2008-08-26T21:14:18Z</dcterms:modified>
  <cp:revision>22</cp:revision>
  <dc:subject/>
  <dc:title>6 Period Day Mod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7991033</vt:lpwstr>
  </property>
</Properties>
</file>